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198AD-5CB7-4E20-BB2B-16B64EA8D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B4ACB-8F2A-44C4-878B-37236B11B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A799-7961-4F29-8227-3BCAF81E2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9AC45-906B-44E8-B5E4-BCC3780C09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CB4B-5B2A-4BB3-8DAD-3E0E8C5EC1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3BCD1-9097-4F8D-95F4-65D755E7F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D532D-10A7-4F3B-9ADE-3D4DFE12B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BC0D9-314F-4E22-9A10-5A604879E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A28E8-38F0-4C73-AA16-27DB15307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CA9C7-9A29-44EE-84AF-9C2919D37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96F3-3C47-4F26-B81D-943167340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7BF0E-42DC-4421-A53D-0A9A406B6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F206-4CFE-473D-88A9-F55F979CBA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19D5-69A4-4804-A96F-07AC0E7BEC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plore and Buil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a unit from a course and plan an outline for a learning wall or 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can work on paper, or explore Prezi or Ever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could also explore epractice, www.101.qs.com, or a selection of video c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83BF-446B-4F66-A61F-3278A987B6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23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flect on the idea of assessment of learning as being more a process then an ev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ight you use this idea in your classroom next ye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ot this down on an exit card, and give it to us as you le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B33C-D676-4E22-8F20-2075D674DC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an opportunity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ssessment of learning (summative assessment) as a continuous iterative process, not an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learning walls and portfolios and their connection to assessment of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learning walls and portfolios using different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A297-E36D-46DB-A2E9-0DAAC272B1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9C83-B549-4752-AB7B-8355875948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hat Assessment of Learning is No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r.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r. D encore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63B5-472F-4C9A-ABAA-F999542B7D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peed Dat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the plenary session, Chris made the statement:  “Summative assessment – a process, not an ev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would you respond to that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Line A responds first, then Line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D583-F1F5-4023-B2F3-DC1660E8ED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peed Dat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2.  In the plenary, Chris made the statement:  “Portfolio assessment is one example of what summative assessment might look lik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would you respond to that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Line B responds first, then Line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B65D-1B10-4FDF-892C-6593579DD1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666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peed Dat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.  What might you include in a portfolio if you wanted to use portfolio assessment in your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Line A responds first, then Line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81CD-30B8-423B-8490-94B9A35099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Wal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ound Robin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ave you used a learning wall in your class?  What features did you inclu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s your learning wall effective? 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o you think are some key ingredients of a learning w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6171-7894-4B55-95F4-6E2E2ACEE1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amples of Learning Wal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Learning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Electronic Learning Wall Using Pre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26A1-2072-4339-B114-4CA6067AA7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lectronic Portfolio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Teacher Rob uses Evernote for Student Portfol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o I insert link to video on Everno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407D-79DD-4C70-BEA3-A1F1AF94E4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Karen</cp:lastModifiedBy>
  <dcterms:modified xsi:type="dcterms:W3CDTF">2012-07-12T22:35:03Z</dcterms:modified>
  <cp:revision>27</cp:revision>
  <dc:subject/>
  <dc:title>&lt;Title&gt;</dc:title>
</cp:coreProperties>
</file>